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38A7-0FA1-4D14-95F5-26F4688C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85DC-025A-4D69-8AE2-76DB2FD6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B960-5DFE-43A1-B172-4458BD54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63D-9CE7-4211-B081-976E92F6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C80B-9B1B-44BF-9531-FE5468FF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E57-F029-4444-B983-E5491F92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DA3-356C-45F5-ABA2-DA68720A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B4A1-D490-4E59-B8DF-C9E5C183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6495-81C0-41A3-BC1D-637826F4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E26-79B0-466F-9608-2388E108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B05C-A8D6-44C5-900A-49007FA1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A97-9C1D-4A38-AD07-FF299C2F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DEA8-C079-4D45-93E0-B6FCC7A32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84720" y="0"/>
            <a:ext cx="4859280" cy="66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омни! Подниматься на крышу вагона смертельно опасно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Напряжение в контактной сети переменного тока  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27500 В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(безопасным для жизни считается напряжение 50 В переменного тока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и напряжении 27500 В электрическая дуга может возникнуть при приближении к проводу на расстоянии менее 80 см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иближаться к оборванным лежащим на земле проводам на расстоянии менее 8 метров нельзя!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Электрический ток от оборванного провода растекается по земл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При обнаружении таких проводов необходимо сообщить работникам железнодорожного транспор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9T10:49:48Z</dcterms:created>
  <dc:creator>etb</dc:creator>
  <dc:description/>
  <dc:language>en-US</dc:language>
  <cp:lastModifiedBy>etb</cp:lastModifiedBy>
  <dcterms:modified xsi:type="dcterms:W3CDTF">2011-07-19T11:30:42Z</dcterms:modified>
  <cp:revision>7</cp:revision>
  <dc:subject/>
  <dc:title>Слайд 1</dc:title>
</cp:coreProperties>
</file>