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1321-4362-442D-BBF9-622F2D863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0AE0-00FC-482A-BA29-24EA698CD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0E95-A321-4FC0-BE3D-AD8A246F6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D4A2-E73F-4596-B400-BEBC3F825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A8C0-2350-431B-B1DA-57712A457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0973-413A-4E66-838A-B54F4E8B5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F913-94B8-4B3C-876F-A4A8FA99F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4265-CA5A-44DA-B8DE-3DC32EA0B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C607-35C3-43CB-994E-CF0A3EE04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C240-DB78-464E-B18C-7313804AD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5C8E-A0D3-4CE9-A119-759D58335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379F-F596-4D94-A092-5C0E36CBD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DEF2E-3651-4BFB-B08E-D3783EA0D3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4036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284720" y="0"/>
            <a:ext cx="4859280" cy="66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Помни! Подниматься на крышу вагона смертельно опасно!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Напряжение в контактной сети переменного тока 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27500 В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(безопасным для жизни считается напряжение 50 В переменного тока)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При напряжении 27500 В электрическая дуга может возникнуть при приближении к проводу на расстоянии менее 80 см.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Приближаться к оборванным лежащим на земле проводам на расстоянии менее 8 метров нельзя!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Электрический ток от оборванного провода растекается по земле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При обнаружении таких проводов необходимо сообщить работникам железнодорожного транспорт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9T10:49:48Z</dcterms:created>
  <dc:creator>etb</dc:creator>
  <dc:description/>
  <dc:language>en-US</dc:language>
  <cp:lastModifiedBy>etb</cp:lastModifiedBy>
  <dcterms:modified xsi:type="dcterms:W3CDTF">2011-07-19T11:30:42Z</dcterms:modified>
  <cp:revision>7</cp:revision>
  <dc:subject/>
  <dc:title>Слайд 1</dc:title>
</cp:coreProperties>
</file>