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944-5B50-4E5F-BAD8-A4741E5D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45F-E320-4E86-A69A-4A1BD156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F7B-3821-4530-9823-212CA434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D3C-DA5C-4936-9657-BB91A44E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BF1-6208-4E5F-AF09-503C7EE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A67-5A09-4C61-8FC4-FD09538F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8A7-A46F-405D-ABDF-CBC50E72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A57-5A75-4361-91C6-D67EC3DA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9CE-D6B6-48E4-853E-C9444C5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5B3-D3C1-432D-B849-98F84842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703-59B7-415F-B02A-F9FAC633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52C-D33F-488C-908B-0D27A51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CD3E-BC62-4577-BDFE-30B90A8CC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4859280" cy="66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мни! Подниматься на крышу вагона смертельно опасно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апряжение в контактной сети переменного тока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27500 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безопасным для жизни считается напряжение 50 В переменного тока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напряжении 27500 В электрическая дуга может возникнуть при приближении к проводу на расстоянии менее 80 см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иближаться к оборванным лежащим на земле проводам на расстоянии менее 8 метров нельзя!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Электрический ток от оборванного провода растекается по земл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обнаружении таких проводов необходимо сообщить работникам железнодорожного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49:48Z</dcterms:created>
  <dc:creator>etb</dc:creator>
  <dc:description/>
  <dc:language>en-US</dc:language>
  <cp:lastModifiedBy>etb</cp:lastModifiedBy>
  <dcterms:modified xsi:type="dcterms:W3CDTF">2011-07-19T11:30:42Z</dcterms:modified>
  <cp:revision>7</cp:revision>
  <dc:subject/>
  <dc:title>Слайд 1</dc:title>
</cp:coreProperties>
</file>