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169-6CB2-4171-AE1B-08FF8DD0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335-EEE9-44B0-BEEE-379423CD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6A2-4A25-44DC-8D1D-4922F4C3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C24-233C-4D00-AB0C-F312C045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658-E321-443E-AB36-B8590373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C0D-6EF8-4C78-8E5F-038BD94C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97C-82DF-458D-8489-F5C402EE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2D7-14F5-4282-ABCA-96B49F02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5A6-6601-4482-874A-AC412D78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AC2-3A9B-4019-B580-AFAFD58C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14A-50EB-43FA-8C47-A40A8372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99C-BD76-4D30-A18D-A8F93CC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F96E-B516-4B46-B300-68ADE62E3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0"/>
            <a:ext cx="4859280" cy="66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мни! Подниматься на крышу вагона смертельно опасно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апряжение в контактной сети переменного тока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27500 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безопасным для жизни считается напряжение 50 В переменного тока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напряжении 27500 В электрическая дуга может возникнуть при приближении к проводу на расстоянии менее 80 см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иближаться к оборванным лежащим на земле проводам на расстоянии менее 8 метров нельзя!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Электрический ток от оборванного провода растекается по земл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обнаружении таких проводов необходимо сообщить работникам железнодорожного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0:49:48Z</dcterms:created>
  <dc:creator>etb</dc:creator>
  <dc:description/>
  <dc:language>en-US</dc:language>
  <cp:lastModifiedBy>etb</cp:lastModifiedBy>
  <dcterms:modified xsi:type="dcterms:W3CDTF">2011-07-19T11:30:42Z</dcterms:modified>
  <cp:revision>7</cp:revision>
  <dc:subject/>
  <dc:title>Слайд 1</dc:title>
</cp:coreProperties>
</file>